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30.png" ContentType="image/png"/>
  <Override PartName="/ppt/media/image28.png" ContentType="image/png"/>
  <Override PartName="/ppt/media/image34.png" ContentType="image/png"/>
  <Override PartName="/ppt/media/image9.png" ContentType="image/png"/>
  <Override PartName="/ppt/media/image37.wmf" ContentType="image/x-wmf"/>
  <Override PartName="/ppt/media/image38.png" ContentType="image/png"/>
  <Override PartName="/ppt/media/image6.png" ContentType="image/png"/>
  <Override PartName="/ppt/media/image36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5E7B-C851-41D8-A284-CB48774209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4489-F74A-4EEF-9819-5C71E0013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3CFE-F28E-4424-ACBC-393345267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165-C0FD-4195-918E-83094F2E9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008-5190-4056-976B-03224082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6CF-DD98-4E33-9B9A-6F91E7F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83F-C338-4AF4-9829-167A5B8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129-427F-4AAC-807E-57C1537A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EDB-046F-4158-83D6-2718F000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27D8-A48D-4981-B10F-5D9E84E7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CFDB-9D53-4E40-B8F1-649F2709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27F1-3B71-4F92-A982-20B41712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397D-33D4-41F0-927C-06A6569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998F-FF66-4A64-B561-7ABB6318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6173-EB62-4FE8-BA99-6748B64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11A-C364-47B2-9929-BA7A26D5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95CA-B595-43DC-8287-E3775670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4D13-1470-47CA-9E60-32D2A39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C80-95B2-4E04-B4A8-B0E064C6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DA14-FAED-4677-A30A-08CDA27D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7A0-B7AB-438C-8554-EA77DD42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575C-748F-41E9-A532-2C144CC5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7916-F6EB-4AB2-9D18-704CFFAC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D808-7332-467A-B206-732A6DB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9CF0-E449-4D9A-A255-9EDC23CB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43B67-AB1A-496B-9B7D-D25E861D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117-A808-49BF-827B-B9B484FA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EAC3-90CD-4816-8813-A8967BF3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C84C-4404-4B61-91E8-F9F4742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1A836-FBB3-4623-90C4-F7F1018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6749-4D3A-4A1A-803B-DAFFE11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8D02-2F0A-4E4D-95DC-65D470F1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0193-11C4-4E8F-A8A4-E90D468E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8F63-9D6C-48BC-A6D1-6F8395BE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23E2-D7FA-4EFE-AC1C-880FC9C4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E3F7-054A-44F9-A0F9-D6ABD00A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F5830-233E-4145-87E1-5EDA4C9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A8C-0537-4236-AC24-84BDD237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C70C-3897-4325-8AFD-3E38716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816B-78A9-48F0-875D-40E8F0FB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5AB2-75BC-4EA8-95FB-4EB6763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E975-9EC0-4498-8DB8-F7A0729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7AA8-3264-4698-9D64-0BC096B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DF06-1E0B-4488-AF3D-BFF4658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6BD36-C5E7-475B-8CC5-56AAA276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6EE9-1515-41EB-B77D-C9D2528D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1088-62E9-4680-8D13-2F5B05BA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156-3076-4300-A344-7F20350C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42C-303E-4627-89AA-DB7C562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50E-45CA-4D7F-BA83-F1A7DFA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17C-5512-4B81-B9BB-194FC46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614-0499-46E0-A1E6-96830506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A3E-F1F0-48F3-AE67-B2B84851BB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6C80-0BC4-4874-AEDA-9B69B28CEF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92A2-A2E6-423A-9524-83D61E22D9F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8D8A-0000-4357-BD62-2C70D925F29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1"/>
          <a:stretch/>
        </p:blipFill>
        <p:spPr>
          <a:xfrm>
            <a:off x="530280" y="-1054080"/>
            <a:ext cx="7864560" cy="4492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ы подготовлены на основе решения Собрания депутатов Еткульского муниципального района от 28.03.2018г. №  353 «Об исполнении бюджета  Еткульского муниципального района за 2017 год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611280" y="6206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полнение бюджета Еткульского муниципального района за 2017 го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60480" y="49320"/>
            <a:ext cx="921708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38"/>
          <p:cNvGraphicFramePr/>
          <p:nvPr/>
        </p:nvGraphicFramePr>
        <p:xfrm>
          <a:off x="757080" y="2395440"/>
          <a:ext cx="7629840" cy="346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2395440"/>
                    <a:ext cx="76298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2"/>
          <p:cNvSpPr/>
          <p:nvPr/>
        </p:nvSpPr>
        <p:spPr>
          <a:xfrm>
            <a:off x="7093080" y="1143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8717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Содержимое 6"/>
          <p:cNvGraphicFramePr/>
          <p:nvPr/>
        </p:nvGraphicFramePr>
        <p:xfrm>
          <a:off x="60480" y="1316160"/>
          <a:ext cx="8615160" cy="517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" name="Содержимое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" y="1316160"/>
                    <a:ext cx="861516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Box 3"/>
          <p:cNvSpPr/>
          <p:nvPr/>
        </p:nvSpPr>
        <p:spPr>
          <a:xfrm>
            <a:off x="2411280" y="4508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258920" y="4149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3635280" y="4508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478800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5940360" y="42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7093080" y="45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ограммный бюджет </a:t>
            </a:r>
            <a:br>
              <a:rPr sz="2900"/>
            </a:br>
            <a:r>
              <a:rPr b="0" lang="ru-RU" sz="2900" spc="-1" strike="noStrike">
                <a:solidFill>
                  <a:srgbClr val="0070c0"/>
                </a:solidFill>
                <a:latin typeface="Calibri"/>
              </a:rPr>
              <a:t>в 2017 году 98,3% расходов проведено по государственным и муниципальным программам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Содержимое 3"/>
          <p:cNvGraphicFramePr/>
          <p:nvPr/>
        </p:nvGraphicFramePr>
        <p:xfrm>
          <a:off x="485640" y="1935000"/>
          <a:ext cx="8172720" cy="43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935000"/>
                    <a:ext cx="81727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01600" y="-12600"/>
            <a:ext cx="8813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Содержимое 3"/>
          <p:cNvGraphicFramePr/>
          <p:nvPr/>
        </p:nvGraphicFramePr>
        <p:xfrm>
          <a:off x="252360" y="1270080"/>
          <a:ext cx="8275680" cy="47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2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270080"/>
                    <a:ext cx="8275680" cy="47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Содержимое 4" descr=""/>
          <p:cNvPicPr/>
          <p:nvPr/>
        </p:nvPicPr>
        <p:blipFill>
          <a:blip r:embed="rId1"/>
          <a:stretch/>
        </p:blipFill>
        <p:spPr>
          <a:xfrm>
            <a:off x="450720" y="487440"/>
            <a:ext cx="8193240" cy="57546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 flipV="1" rot="10800000">
            <a:off x="468000" y="29678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77164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тание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6227640" y="4005360"/>
            <a:ext cx="24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,1 млн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одержимое 4" descr=""/>
          <p:cNvPicPr/>
          <p:nvPr/>
        </p:nvPicPr>
        <p:blipFill>
          <a:blip r:embed="rId1"/>
          <a:stretch/>
        </p:blipFill>
        <p:spPr>
          <a:xfrm>
            <a:off x="244440" y="36360"/>
            <a:ext cx="8796240" cy="6626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 flipV="1" rot="10800000">
            <a:off x="905040" y="3005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3419640" y="2708280"/>
            <a:ext cx="2447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  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755640" y="198900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еспечение доступа инвалид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0,0 тыс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c249"/>
                </a:solidFill>
                <a:latin typeface="Calibri"/>
              </a:rPr>
              <a:t>Программы </a:t>
            </a:r>
            <a:br>
              <a:rPr sz="3200"/>
            </a:br>
            <a:r>
              <a:rPr b="1" lang="ru-RU" sz="3200" spc="-1" strike="noStrike">
                <a:solidFill>
                  <a:srgbClr val="a5c249"/>
                </a:solidFill>
                <a:latin typeface="Calibri"/>
              </a:rPr>
              <a:t>по жилищно-коммунальному хозяйств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Содержимое 5" descr=""/>
          <p:cNvPicPr/>
          <p:nvPr/>
        </p:nvPicPr>
        <p:blipFill>
          <a:blip r:embed="rId1"/>
          <a:stretch/>
        </p:blipFill>
        <p:spPr>
          <a:xfrm>
            <a:off x="450720" y="1341360"/>
            <a:ext cx="8242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сходование средств дорожного фонд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8000" y="1197000"/>
            <a:ext cx="89280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Очистка улично-дорожной сети от снега 1522,76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Подсыпка щебнем и горельником                   8052 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Грейдирование улично-дорожной сети  1027,35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Разметка дорожной сети                                  7,94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Ямочный ремонт                                                 9,12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Искусственные неровности                                 8 ш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Установка и ремонт светильников                 206 ш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Замена проводов для уличного освещения  1030 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Установка дорожных знаков                               6 ш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Программы   по   культур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Содержимое 5" descr=""/>
          <p:cNvPicPr/>
          <p:nvPr/>
        </p:nvPicPr>
        <p:blipFill>
          <a:blip r:embed="rId1"/>
          <a:stretch/>
        </p:blipFill>
        <p:spPr>
          <a:xfrm>
            <a:off x="450720" y="950760"/>
            <a:ext cx="824256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4" descr=""/>
          <p:cNvPicPr/>
          <p:nvPr/>
        </p:nvPicPr>
        <p:blipFill>
          <a:blip r:embed="rId1"/>
          <a:stretch/>
        </p:blipFill>
        <p:spPr>
          <a:xfrm>
            <a:off x="195120" y="-30240"/>
            <a:ext cx="8790120" cy="68756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 flipV="1" rot="10800000">
            <a:off x="905040" y="3005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3708360" y="314172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МОЛОДЁ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сполнение местного бюдже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565360"/>
            <a:ext cx="403848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сполнение бюджета по дохода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это обеспечение полного и своевременного поступления в бюджет отдельных видов доходов, в первую очередь, налогов и других обязательных платежей, по каждому источнику в соответствии с утвержденным бюджетным план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565360"/>
            <a:ext cx="403848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сполнение бюджета по расходам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-означает последовательное финансирование мероприятий, предусмотренных решением о бюджете, в пределах утвержденных сум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Программы по защите населения </a:t>
            </a:r>
            <a:br>
              <a:rPr sz="2600"/>
            </a:b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от чрезвычайных ситуаций и преступлений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Содержимое 5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8242560" cy="53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-6480" y="237960"/>
            <a:ext cx="9156960" cy="96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33"/>
          <p:cNvGraphicFramePr/>
          <p:nvPr/>
        </p:nvGraphicFramePr>
        <p:xfrm>
          <a:off x="395280" y="1943280"/>
          <a:ext cx="813744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43280"/>
                    <a:ext cx="81374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Box 5"/>
          <p:cNvSpPr/>
          <p:nvPr/>
        </p:nvSpPr>
        <p:spPr>
          <a:xfrm>
            <a:off x="250920" y="1638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лн.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 rot="16200000">
            <a:off x="1138320" y="379080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 rot="16200000">
            <a:off x="3924360" y="364788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extBox 1" descr=""/>
          <p:cNvPicPr/>
          <p:nvPr/>
        </p:nvPicPr>
        <p:blipFill>
          <a:blip r:embed="rId1"/>
          <a:stretch/>
        </p:blipFill>
        <p:spPr>
          <a:xfrm>
            <a:off x="42840" y="536400"/>
            <a:ext cx="8875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4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7480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Object 34"/>
          <p:cNvGraphicFramePr/>
          <p:nvPr/>
        </p:nvGraphicFramePr>
        <p:xfrm>
          <a:off x="500040" y="1986120"/>
          <a:ext cx="8143920" cy="428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1986120"/>
                    <a:ext cx="81439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Box 5"/>
          <p:cNvSpPr/>
          <p:nvPr/>
        </p:nvSpPr>
        <p:spPr>
          <a:xfrm>
            <a:off x="3132000" y="36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8,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5867280" y="3716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6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4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Object 37"/>
          <p:cNvGraphicFramePr/>
          <p:nvPr/>
        </p:nvGraphicFramePr>
        <p:xfrm>
          <a:off x="519120" y="3059280"/>
          <a:ext cx="810576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Object 3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9120" y="3059280"/>
                    <a:ext cx="81057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Стрелка вправо 7" descr=""/>
          <p:cNvPicPr/>
          <p:nvPr/>
        </p:nvPicPr>
        <p:blipFill>
          <a:blip r:embed="rId4"/>
          <a:stretch/>
        </p:blipFill>
        <p:spPr>
          <a:xfrm>
            <a:off x="3693960" y="4322880"/>
            <a:ext cx="2627640" cy="712800"/>
          </a:xfrm>
          <a:prstGeom prst="rect">
            <a:avLst/>
          </a:prstGeom>
          <a:ln w="0">
            <a:noFill/>
          </a:ln>
        </p:spPr>
      </p:pic>
      <p:pic>
        <p:nvPicPr>
          <p:cNvPr id="217" name="Стрелка вправо 4" descr=""/>
          <p:cNvPicPr/>
          <p:nvPr/>
        </p:nvPicPr>
        <p:blipFill>
          <a:blip r:embed="rId5"/>
          <a:stretch/>
        </p:blipFill>
        <p:spPr>
          <a:xfrm>
            <a:off x="2908440" y="3535200"/>
            <a:ext cx="2687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802720" cy="1444680"/>
          </a:xfrm>
          <a:prstGeom prst="rect">
            <a:avLst/>
          </a:prstGeom>
          <a:ln w="0">
            <a:noFill/>
          </a:ln>
        </p:spPr>
      </p:pic>
      <p:pic>
        <p:nvPicPr>
          <p:cNvPr id="219" name="Объект 4" descr=""/>
          <p:cNvPicPr/>
          <p:nvPr/>
        </p:nvPicPr>
        <p:blipFill>
          <a:blip r:embed="rId2"/>
          <a:stretch/>
        </p:blipFill>
        <p:spPr>
          <a:xfrm>
            <a:off x="1235160" y="1935000"/>
            <a:ext cx="6673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01600" y="-12600"/>
            <a:ext cx="8813880" cy="16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Содержимое 3"/>
          <p:cNvGraphicFramePr/>
          <p:nvPr/>
        </p:nvGraphicFramePr>
        <p:xfrm>
          <a:off x="685800" y="1935000"/>
          <a:ext cx="7772400" cy="438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35000"/>
                    <a:ext cx="77724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33200" y="244440"/>
            <a:ext cx="78771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43"/>
          <p:cNvGraphicFramePr/>
          <p:nvPr/>
        </p:nvGraphicFramePr>
        <p:xfrm>
          <a:off x="457200" y="2598840"/>
          <a:ext cx="8228160" cy="306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98840"/>
                    <a:ext cx="82281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78000" y="182520"/>
            <a:ext cx="7686360" cy="89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Объект 3"/>
          <p:cNvGraphicFramePr/>
          <p:nvPr/>
        </p:nvGraphicFramePr>
        <p:xfrm>
          <a:off x="392040" y="905040"/>
          <a:ext cx="3835440" cy="280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905040"/>
                    <a:ext cx="383544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Box 5"/>
          <p:cNvSpPr/>
          <p:nvPr/>
        </p:nvSpPr>
        <p:spPr>
          <a:xfrm>
            <a:off x="404640" y="3429000"/>
            <a:ext cx="828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зификация – 55,0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онт начальной школы – 6,0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ение школьных автобусов – 3,3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ельство, реконструкция сетей (тепло, вода) –13,0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современной городской среды  – 8,9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ение жилья для переселения – 4,7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онт и оснащение клуба д.Копытово  – 3,4 млн.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ещение убытков предприятиям ЖКХ – 7,6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ыплату зарплаты по культуре – 3,5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929040" y="1484280"/>
            <a:ext cx="46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о дополнительно финансовой помощи от вышестоящих бюджетов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3,6 млн.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31840" y="-804960"/>
            <a:ext cx="8808840" cy="22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36"/>
          <p:cNvGraphicFramePr/>
          <p:nvPr/>
        </p:nvGraphicFramePr>
        <p:xfrm>
          <a:off x="250920" y="2062080"/>
          <a:ext cx="835344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062080"/>
                    <a:ext cx="83534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5:45:23Z</dcterms:created>
  <dc:creator>Sasha</dc:creator>
  <dc:description/>
  <dc:language>en-US</dc:language>
  <cp:lastModifiedBy>Ольга</cp:lastModifiedBy>
  <cp:lastPrinted>2018-03-19T09:59:35Z</cp:lastPrinted>
  <dcterms:modified xsi:type="dcterms:W3CDTF">2018-04-09T06:31:53Z</dcterms:modified>
  <cp:revision>623</cp:revision>
  <dc:subject/>
  <dc:title>Проект</dc:title>
</cp:coreProperties>
</file>